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5FDDC-32B1-464D-B840-08C1023E2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B42D8-27DE-46DA-B92D-9ACA92EA4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DF95A-C404-4E10-8204-141B2E3D4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BD9E8-502B-4CB7-B5B5-2FA5D403C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9188B-D87D-4D64-BB21-E76E4E5EA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0E43B-A85C-4ED8-8F90-7382963A7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1C832-6915-4708-B6BE-C0D406289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B3623-C41F-4348-BAC5-46771D550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073C9-319B-4057-8650-B7495CEEF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88635-DE6B-4153-94B2-7EEF7E79A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91E46-BA6B-4EB7-80B8-1CB66E919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85A0D-84E1-4BD6-A6D4-E2C752C8D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D19C-144D-47ED-BA73-BD1144A9E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15920"/>
            <a:ext cx="777240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l dolore totale</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Samot Palermo</a:t>
            </a:r>
            <a:endParaRPr b="0" lang="en-US" sz="1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zia Alia</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o Licata</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ra Tartag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549000"/>
            <a:ext cx="8229600" cy="56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dolore coinvolge profondamente la sfera emotiva del malato di cancro: giunge come rottura improvvisa di un equilibrio al quale segue un trauma psichico al quale a sua volta segue una reazione di difesa dell’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o per difendersi dal trauma si concentra sulla rappresentazione dell’area corporea interessata dalla lesione col risultato di intensificare la sensazione dolorosa per “espansione” della rappresentazione psichica della lesio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 l’energia psichica viene polarizzata dalla rappresentazione dell’area le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allor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uso adeguato di ansiolitici e sedativi attenua fino a neutralizzarla, la capacità dell’Io di registrare questi squilibri e tradurli in </a:t>
            </a:r>
            <a:r>
              <a:rPr b="0" i="1" lang="it-IT" sz="2000" spc="-1" strike="noStrike">
                <a:solidFill>
                  <a:srgbClr val="000000"/>
                </a:solidFill>
                <a:latin typeface="Comic Sans MS"/>
              </a:rPr>
              <a:t>“dolore sul piano della coscienza”;</a:t>
            </a:r>
            <a:r>
              <a:rPr b="0" lang="it-IT" sz="2000" spc="-1" strike="noStrike">
                <a:solidFill>
                  <a:srgbClr val="000000"/>
                </a:solidFill>
                <a:latin typeface="Comic Sans MS"/>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intervento farmacologico efficace sul dolore fisico </a:t>
            </a:r>
            <a:endParaRPr b="0" lang="en-US" sz="2000" spc="-1" strike="noStrike">
              <a:solidFill>
                <a:srgbClr val="000000"/>
              </a:solidFill>
              <a:latin typeface="Arial"/>
            </a:endParaRPr>
          </a:p>
          <a:p>
            <a:pPr marL="457200" indent="-45720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ve essere dunque associata la somministrazione di  terapie psicologiche soprattutto se il dolore è a maggior componente psichica, se è angoscia, dramma della “perdita”.</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La sofferenza può essere controllata e limitata dal paziente stesso se egli è adeguatamente aiutato.</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Nelle fasi finali della vita, questa sedazione può giungere fino alla soppressione della coscienza  quando la sofferenza si muta in agitazione profonda o deli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 per aiutare fino in fondo il nostro pz dobbiamo:</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oscere il “suo” dolore,</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redere in quello che ci dice e comprendere; </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accogliere una accurata anamnesi del suo dolore e della storia della sua malattia contestualizzata;</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lutare l’intensità del dolore fisico e valutare gli indici di qualità di vita (ore di sonno, alterazioni della vita quotidiana, del lavoro, degli hobbies dei rapporti con gli altri).</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3300"/>
                </a:solidFill>
                <a:latin typeface="Comic Sans MS"/>
              </a:rPr>
              <a:t>Bisognerebbe dedicare un tempo adeguato alla “prevenzione” del dolore totale ma purtroppo, molto spesso, questo aspetto fallis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9810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riesco a dimenticare Paola una donna di 36 anni affetta da glioblastoma, perfettamente cosciente della sua malattia e della prognosi, che non si lasciò avvicinare mai; lei era infinitamente disperata perché non avrebbe visto crescere i suoi bambini di 6 e 8 anni. Non le importava delle sue trasformazioni fisiche, del volto ricoperto da peluria per l’uso massiccio di cortisone, del capo senza capelli per la chemioterapia… si sarebbe sottoposta a qualunque sofferenza pur di non lasciare i suoi bambini ma sapeva che ciò non era possibile e che anzi li avrebbe lasciati molto presto. Non parlava, non si interessava a nulla e non voleva essere “disturba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ff3300"/>
                </a:solidFill>
                <a:latin typeface="Arial"/>
              </a:rPr>
              <a:t>Il suo era un dolore senza rime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l concetto di dolore totale probabilmente fu intuito per la prima volta da Dame CICELY SAUNDERS, crocerossina ai tempi della II guerra mondiale che, curando i soldati feriti si rese conto ogni giorno di più che le terapie mediche destinate a lenire il dolore fisico, non erano sufficienti a placare la sofferenza di quegli uomini proprio perché essa era la somma di più dolori: </a:t>
            </a:r>
            <a:r>
              <a:rPr b="0" i="1" lang="en-US" sz="2400" spc="-1" strike="noStrike">
                <a:solidFill>
                  <a:srgbClr val="ff3300"/>
                </a:solidFill>
                <a:latin typeface="Arial"/>
              </a:rPr>
              <a:t>quello fisico, quello psicologico, quello esistenzi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ra l’incertezza del futuro, era la paura della morte, era la preoccupazione per il destino delle proprie famigl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iopatologia del “dolore total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 </a:t>
            </a:r>
            <a:endParaRPr b="0" lang="en-US" sz="9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Alla luce di moderni concetti di fisiopatologia del dolore sappiamo che esso presenta diverse componenti che possono essere rappresentate in percentuali differenti e questo ha ovvie ripercussioni sulle scelte terapeutich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componente emotiva che sempre si associa alla sensazione dolorosa, può’ricoprire un ruolo notevole nella composizione dell’elemento dolor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soggettivita’ dei vari “filtri” attraverso cui il dolore passa, lo trasforma in sofferenza, e questa poi si esprime in modi diversi a seconda del contesto socio-culturale ed ambientale in cui si sviluppa ed asseconda delle influenze spirituali ed etich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 ovvio che l’esperienza dolore viene vissuta in maniera differente se il pz e’ socialmente abbandonato, oppure in preda ad ansie o depresso o indig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omic Sans MS"/>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Uno studio recentissimo di Yunger e MacKey dimostra, con la RM funzionale che, soggetti innamorati ed affettivamente appagati sentono meno gli stimoli dolorosi indotti sperimentalmente per un sistema di attivazione delle endorfine che lo stato di appagamento affettivo induce.</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r>
              <a:rPr b="0" lang="en-GB" sz="2000" spc="-1" strike="noStrike">
                <a:solidFill>
                  <a:srgbClr val="000000"/>
                </a:solidFill>
                <a:latin typeface="Comic Sans MS"/>
              </a:rPr>
              <a:t>Yunger J.- MakKey S.- Parke S.”Viewing Pictures of a romantic partner reduces experimental pain: involvement of neural renard systems”. PLoS ONE 20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920" y="404640"/>
            <a:ext cx="8642160" cy="6048720"/>
          </a:xfrm>
          <a:prstGeom prst="rect">
            <a:avLst/>
          </a:prstGeom>
          <a:noFill/>
          <a:ln w="0">
            <a:noFill/>
          </a:ln>
        </p:spPr>
        <p:txBody>
          <a:bodyPr lIns="90000" rIns="90000" tIns="46800" bIns="46800" anchor="t">
            <a:normAutofit fontScale="97000"/>
          </a:bodyPr>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Componente fisica</a:t>
            </a:r>
            <a:r>
              <a:rPr b="0" lang="it-IT" sz="1400" spc="-1" strike="noStrike">
                <a:solidFill>
                  <a:srgbClr val="000000"/>
                </a:solidFill>
                <a:latin typeface="Comic Sans MS"/>
              </a:rPr>
              <a:t>:                                                           </a:t>
            </a:r>
            <a:r>
              <a:rPr b="0" lang="it-IT" sz="1400" spc="-1" strike="noStrike" u="sng">
                <a:solidFill>
                  <a:srgbClr val="000000"/>
                </a:solidFill>
                <a:uFillTx/>
                <a:latin typeface="Comic Sans MS"/>
              </a:rPr>
              <a:t>Componente sociale</a:t>
            </a:r>
            <a:r>
              <a:rPr b="0" lang="it-IT" sz="1400" spc="-1" strike="noStrike">
                <a:solidFill>
                  <a:srgbClr val="000000"/>
                </a:solidFill>
                <a:latin typeface="Comic Sans MS"/>
              </a:rPr>
              <a:t>:</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Dolore legato al tumore                                                    Isolamento sociale</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Dolore cronico non oncologico                                           Difficolta’ del contatto con la struttura sani</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indrome da astenia/anoressia                                           taria</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rrequietezza-ansia-depressione-insonnia                        Dimissione dall’Ospedale non protetta</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Effetti collaterali delle terapie                                        Perdita del lavoro</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Difficolta’ economiche</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Perdita del proprio ruolo in famiglia e societa’</a:t>
            </a:r>
            <a:endParaRPr b="0" lang="en-US" sz="1400" spc="-1" strike="noStrike">
              <a:solidFill>
                <a:srgbClr val="000000"/>
              </a:solidFill>
              <a:latin typeface="Arial"/>
            </a:endParaRPr>
          </a:p>
          <a:p>
            <a:pPr marL="591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olore totale</a:t>
            </a:r>
            <a:endParaRPr b="0" lang="en-US" sz="3200" spc="-1" strike="noStrike">
              <a:solidFill>
                <a:srgbClr val="000000"/>
              </a:solidFill>
              <a:latin typeface="Arial"/>
            </a:endParaRPr>
          </a:p>
          <a:p>
            <a:pPr marL="591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Comic Sans MS"/>
              </a:rPr>
              <a:t>Componente psichica e spirituale</a:t>
            </a:r>
            <a:r>
              <a:rPr b="0" lang="it-IT" sz="1400" spc="-1" strike="noStrike">
                <a:solidFill>
                  <a:srgbClr val="000000"/>
                </a:solidFill>
                <a:latin typeface="Comic Sans MS"/>
              </a:rPr>
              <a:t>:</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aura della malattie e delle terapie</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reoccupazioni per la famiglia</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solamento spirituale</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aura della morte</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lterazioni dell’aspetto fisico</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dita del controllo del proprio corpo</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Dipendenza da altri e perdita della dignita’</a:t>
            </a:r>
            <a:endParaRPr b="0" lang="en-US" sz="1400" spc="-1" strike="noStrike">
              <a:solidFill>
                <a:srgbClr val="000000"/>
              </a:solidFill>
              <a:latin typeface="Arial"/>
            </a:endParaRPr>
          </a:p>
          <a:p>
            <a:pPr marL="5911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aura del dolore</a:t>
            </a:r>
            <a:endParaRPr b="0" lang="en-US" sz="1400" spc="-1" strike="noStrike">
              <a:solidFill>
                <a:srgbClr val="000000"/>
              </a:solidFill>
              <a:latin typeface="Arial"/>
            </a:endParaRPr>
          </a:p>
        </p:txBody>
      </p:sp>
      <p:sp>
        <p:nvSpPr>
          <p:cNvPr id="48" name=""/>
          <p:cNvSpPr/>
          <p:nvPr/>
        </p:nvSpPr>
        <p:spPr>
          <a:xfrm>
            <a:off x="3276720" y="2205000"/>
            <a:ext cx="431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4642920" y="2060640"/>
            <a:ext cx="2890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3348000" y="378936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 fisic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spetto fisico più sgradevole da sopportare è la sindrome da astenia/anoressia per la quale il malato non riesce più neppure a muoversi nel letto da solo è deve essere accudito in tutto e per tutto, talvolta non trova neppure la forza per esprimere con le parole un bisog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d in più deve sopportare sintomi come nausea, vomito, disfagia, prurito, lesioni da decubito, diarrea o stipsi ostinata, incontinenza, insonnia, agitazione, infezioni fungine o virali, senso di confusione mentale…insomma un disagio glob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e sociale, psichica e spirituale:</a:t>
            </a:r>
            <a:endParaRPr b="0" lang="en-US" sz="4000" spc="-1" strike="noStrike">
              <a:solidFill>
                <a:srgbClr val="000000"/>
              </a:solidFill>
              <a:latin typeface="Arial"/>
            </a:endParaRPr>
          </a:p>
        </p:txBody>
      </p:sp>
      <p:sp>
        <p:nvSpPr>
          <p:cNvPr id="54"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sperienza dolore è percepita da ognuno in maniera differente a seconda del contesto ambientale. Subisce influenze socio-culturali, spirituali ed etiche.</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dolore totale” si aggiungono a queste componenti anche elementi di ordine socio-esistenziali che nelle fasi più avanzate della malattia, quando più forte è la sensazione di essere sul punto di abbandonare la vita, possono rivestire un ruolo superiore anche alla componente fisica.</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è la comparsa di dolore psichico vissuto come “perdita” in vari settori della vita: affettivo, sociale, familiare, lavorativo.</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olore per la “perdita” del proprio ruolo in famiglia e sul lavoro; la perdita economica, la perdita di dignità legata alla dipendenza totale ed al bisogno di essere accudito, infine la perdita di identit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molto più facile avere ragione della sintomatologia fisica che del dolore psichico. Il medico palliativista come è ovvio deve mettere in opera ogni mezzo terapeutico per alleviare la sintomatologia fisica, ma molto spesso anche le terapie sintomatiche non sono del tutto efficaci ed altro ancora bisogna fare per accompagnare il nostro paziente e la sua famiglia fino alla morte con dign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74680"/>
            <a:ext cx="8291520" cy="120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Comic Sans MS"/>
              </a:rPr>
              <a:t>nelle cure palliative</a:t>
            </a:r>
            <a:r>
              <a:rPr b="0" lang="it-IT" sz="2000" spc="-1" strike="noStrike">
                <a:solidFill>
                  <a:srgbClr val="000000"/>
                </a:solidFill>
                <a:latin typeface="Comic Sans MS"/>
              </a:rPr>
              <a:t> si ribalta il rapporto medico-paziente ed è il paziente a tracciare il cammino e vuole solo essere accompagnato e confortato dal suo medico, magari consigliato, ma soprattutto ascoltato</a:t>
            </a:r>
            <a:endParaRPr b="0" lang="en-US" sz="2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potere d’ascolto del medico è la medicina fondamentale per questi pazienti:</a:t>
            </a:r>
            <a:endParaRPr b="0" lang="en-US" sz="2000" spc="-1" strike="noStrike">
              <a:solidFill>
                <a:srgbClr val="000000"/>
              </a:solidFill>
              <a:latin typeface="Arial"/>
            </a:endParaRPr>
          </a:p>
          <a:p>
            <a:pPr marL="533520" indent="-53352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re loro il tempo </a:t>
            </a:r>
            <a:endParaRPr b="0" lang="en-US" sz="2000" spc="-1" strike="noStrike">
              <a:solidFill>
                <a:srgbClr val="000000"/>
              </a:solidFill>
              <a:latin typeface="Arial"/>
            </a:endParaRPr>
          </a:p>
          <a:p>
            <a:pPr marL="533520" indent="-53352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possibilità di rendersi conto della malattia,</a:t>
            </a:r>
            <a:endParaRPr b="0" lang="en-US" sz="2000" spc="-1" strike="noStrike">
              <a:solidFill>
                <a:srgbClr val="000000"/>
              </a:solidFill>
              <a:latin typeface="Arial"/>
            </a:endParaRPr>
          </a:p>
          <a:p>
            <a:pPr marL="533520" indent="-53352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bilire una relazione di cura efficace e che tenga conto delle sue volontà</a:t>
            </a:r>
            <a:endParaRPr b="0" lang="en-US" sz="2000" spc="-1" strike="noStrike">
              <a:solidFill>
                <a:srgbClr val="000000"/>
              </a:solidFill>
              <a:latin typeface="Arial"/>
            </a:endParaRPr>
          </a:p>
          <a:p>
            <a:pPr marL="533520" indent="-53352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zzare un percorso adeguato a quella persona, al contesto ambientale e familiare in quel momento della storia della sua vita e della sua malattia.</a:t>
            </a:r>
            <a:endParaRPr b="0" lang="en-US" sz="2000" spc="-1" strike="noStrike">
              <a:solidFill>
                <a:srgbClr val="000000"/>
              </a:solidFill>
              <a:latin typeface="Arial"/>
            </a:endParaRPr>
          </a:p>
          <a:p>
            <a:pPr marL="533520" indent="-533520">
              <a:lnSpc>
                <a:spcPct val="8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spettare le priorità del malato, che possono anche cambiare nel corso della malattia, è un altro aspetto molto importante delle cure palliative ed il malato si aspetta dal suo medico condivisione e solidarietà, perfino complicità rispetto magari ad un desiderio contrastato dalla famiglia</a:t>
            </a:r>
            <a:r>
              <a:rPr b="0" lang="en-US" sz="2000" spc="-1" strike="noStrike">
                <a:solidFill>
                  <a:srgbClr val="000000"/>
                </a:solidFill>
                <a:latin typeface="Arial"/>
              </a:rPr>
              <a: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4:15:09Z</dcterms:created>
  <dc:creator>gigia gigiosa</dc:creator>
  <dc:description/>
  <dc:language>en-US</dc:language>
  <cp:lastModifiedBy>gigia gigiosa</cp:lastModifiedBy>
  <dcterms:modified xsi:type="dcterms:W3CDTF">2010-11-02T18:09:38Z</dcterms:modified>
  <cp:revision>6</cp:revision>
  <dc:subject/>
  <dc:title>Il dolore totale</dc:title>
</cp:coreProperties>
</file>